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BA1-1072-4613-BC89-10DAF225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6D4-E608-41D0-9E51-FA76DF3A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E1F-7FB1-483E-966C-B47903E6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5FC-CED4-4C03-B220-DFC9D268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313-E7F3-43C9-A08E-8DD05512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7AC-60BF-479C-90FF-AA886F1D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4AD-3420-4340-8C68-6052EC5C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8F4-8539-418A-B164-E0C8AF00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3FF-92DC-4660-A5DF-E26F79AD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5AD-FDA2-4970-9AB2-A796A1FE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611-8CDD-4758-9D32-754F8824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EEB-F7CB-41B2-929F-0E0E01DF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3F9F-3EE8-4A5E-B49B-1CDA1B7601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Значение водоёмов в жизни люд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397240"/>
            <a:ext cx="777240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 значение водоёмов и в жизни людей.    Они украшают Зем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здесь отдыхаю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де на судах путешествуют и перевозят груз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«добывает» электрический ток на электростанц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одоёмов берут воду, без которой не могут обойтись ни в быту, ни на производств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ОХРАНА ВОДОЁ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IMG0008"/>
          <p:cNvPicPr/>
          <p:nvPr/>
        </p:nvPicPr>
        <p:blipFill>
          <a:blip r:embed="rId1"/>
          <a:stretch/>
        </p:blipFill>
        <p:spPr>
          <a:xfrm>
            <a:off x="533520" y="1219320"/>
            <a:ext cx="3124080" cy="3117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ёмы должны быть чистым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доёмы не должны попадать сточные воды заводов, ферм, удобрения и ядохимикаты с полей, бензин и смазочное масло, различный мусо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Горящий танкер"/>
          <p:cNvPicPr/>
          <p:nvPr/>
        </p:nvPicPr>
        <p:blipFill>
          <a:blip r:embed="rId2"/>
          <a:stretch/>
        </p:blipFill>
        <p:spPr>
          <a:xfrm>
            <a:off x="2743200" y="4419720"/>
            <a:ext cx="1981080" cy="21891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47" name="Line 6"/>
          <p:cNvSpPr/>
          <p:nvPr/>
        </p:nvSpPr>
        <p:spPr>
          <a:xfrm>
            <a:off x="2514600" y="4572000"/>
            <a:ext cx="2895480" cy="1752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7"/>
          <p:cNvSpPr/>
          <p:nvPr/>
        </p:nvSpPr>
        <p:spPr>
          <a:xfrm flipH="1">
            <a:off x="2133360" y="4724280"/>
            <a:ext cx="2895480" cy="16002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ОХРАНА ВОДОЁ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и могут оказать большую помощь взрослым в охране водоёмов: следить за чистотой воды, расчищать родники и ручьи, оберегать растения и животных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9-4"/>
          <p:cNvPicPr/>
          <p:nvPr/>
        </p:nvPicPr>
        <p:blipFill>
          <a:blip r:embed="rId1"/>
          <a:stretch/>
        </p:blipFill>
        <p:spPr>
          <a:xfrm>
            <a:off x="4451400" y="2209680"/>
            <a:ext cx="40068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514600" y="838080"/>
            <a:ext cx="648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ПОМН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Закрывай кран, пока  чистишь зу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600560" y="1447920"/>
            <a:ext cx="68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Выключай воду, когда работаешь на кух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или говоришь по телефо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522800" y="2438280"/>
            <a:ext cx="738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Не мой посуду под струёй воды. Лучше мы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посуду в раковине, закрыв отверстие проб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505160" y="3505320"/>
            <a:ext cx="758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ерез обычный водопроводный кран про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5 литров воды в мину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ерез незакрытый кран выливается около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литров воды за 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JYZ8YCA1N8VH4CAK1NXPZCARWXAHYCAMXKY3UCAWHS0DECAEN4FBFCA8ZZ825CA20NG2ECAGACO9ICAJHPJJPCA7KH009CAS79VNJCA6BQ23ECATKSU0LCAVM0ZTMCAVEE3EWCAZNFQSQCAGJIG0SCAUWWUN9"/>
          <p:cNvPicPr/>
          <p:nvPr/>
        </p:nvPicPr>
        <p:blipFill>
          <a:blip r:embed="rId1"/>
          <a:stretch/>
        </p:blipFill>
        <p:spPr>
          <a:xfrm>
            <a:off x="304920" y="38088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3200400"/>
            <a:ext cx="5410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ните, что каждый из нас может своими поступками внести неоценимый вклад в защиту окружающей среды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SO01617_"/>
          <p:cNvPicPr/>
          <p:nvPr/>
        </p:nvPicPr>
        <p:blipFill>
          <a:blip r:embed="rId1"/>
          <a:stretch/>
        </p:blipFill>
        <p:spPr>
          <a:xfrm>
            <a:off x="4703760" y="380880"/>
            <a:ext cx="444024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85800" y="533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РЕГИТЕ ВОД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90600" y="129528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ДА – ИСТОЧНИК 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2-01-05T17:08:39Z</dcterms:modified>
  <cp:revision>4</cp:revision>
  <dc:subject/>
  <dc:title>PowerPoint Presentation</dc:title>
</cp:coreProperties>
</file>